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D45A-CD08-421F-B1AE-E6005B95A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BDE3-3451-409D-9C67-7BAB6CCFA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3A5D-4FA1-4285-B836-5127F6D86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AC17-E31A-4AD3-B5CE-A64234AF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F5A7-2C09-4996-83B8-FE94C8C1C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23B9-2CFA-49F8-BC5E-72665BE39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EC6A-109E-4E27-8290-49CAC3321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8CF3-34D2-4F29-BF41-C14CC87BF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69711-FC42-4E1F-99EC-EF4B55431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AB3A-35EE-4354-8CCB-D9AB79BEB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E647-B96C-410C-8716-6254AA069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1B40-8D4F-45EA-A341-464659B52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DF9A-26C9-4BCA-914F-63294CDF8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8ADA-7797-4705-81AB-D50B03535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EAC2-E0F9-4BE6-B50C-B38AD9CCD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5609-2C96-4A14-AB70-FBE3B083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479F-9736-43E3-842C-4B916CAF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733-FAD1-4D60-A5F4-D5AB55C9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2DA0-0F2A-4987-8B8B-10BCBD08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1334-947A-4A77-81F0-5FFAD8FE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1309-D2C9-4796-AF68-D5421AC0D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25201-6B22-4013-A37B-423420243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B509-44E0-4DCE-A43A-72AC1655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1C87-1EEA-4963-93BF-0E1AE464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D78D-CD58-4FB4-BAD3-91085479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F1D9-5226-4B35-BAC0-E1A10620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1BDF1-E71E-4E68-B401-003EF546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ADCE-1DF6-4B8D-AC60-5EC80219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948F-8ACE-4359-ACF0-F674F5FA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156F-66A4-4CF8-80B4-67408CD4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CCCC-666A-4B59-B29D-D9BFF370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683A-948F-44E0-B1A8-E8F62283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FEBF-93B9-486B-90F5-5051FE7C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1801-A28E-453E-98A6-4C124857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AE22-19A7-42F8-BA23-D87E6C3F5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EA3-3153-4EC8-9163-56DC7DB1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2F7-6B7A-4FAB-8B4E-0DF9AE24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E6BB-1AB0-434A-BC1C-93AF9CB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714-F244-4186-A359-A0BBA724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E9FE-DAEE-45B6-9FA1-E3684ED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C3CB-16AE-4B30-A12B-1B3362E9F09D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EC9-AAB4-4A01-B8AD-055094716AC1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hat is Depression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49000" y="1599840"/>
            <a:ext cx="8042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mood disorder that causes symptoms that affect how you feel, think and handle daily activities such as sleeping, eating or working 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 be diagnosed with depression, the symptoms must have been long lasting or persist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Dysthym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People with this illness are mildly depressed for years. They function fairly well on a daily basis but their relationships suffer over time.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Bipolar Disord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People with this type of illness change back and forth between periods of depression and periods of mania (an extreme high)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ymptoms of mania may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ess need for sleep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Overconfidenc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acing though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Reckless behavio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creased energ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Mood changes are usually gradual, but can be sudde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eason Affective Disord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is is a depression that results from changes in the season. Most cases begin in the fall or winter, or when there is a decrease in sunligh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0" name="Picture 4" descr="j0114380"/>
          <p:cNvPicPr/>
          <p:nvPr/>
        </p:nvPicPr>
        <p:blipFill>
          <a:blip r:embed="rId1"/>
          <a:stretch/>
        </p:blipFill>
        <p:spPr>
          <a:xfrm>
            <a:off x="6553080" y="3657600"/>
            <a:ext cx="22384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25748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Professional treatment is necessary for all these types of depression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2" name="Picture 4" descr="j0216682"/>
          <p:cNvPicPr/>
          <p:nvPr/>
        </p:nvPicPr>
        <p:blipFill>
          <a:blip r:embed="rId1"/>
          <a:stretch/>
        </p:blipFill>
        <p:spPr>
          <a:xfrm>
            <a:off x="3505320" y="3124080"/>
            <a:ext cx="37335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Treatment for Depress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Medic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Antidepressants can help ease the symptoms of depression and return a person to normal functioning. Antidepressants are not habit forming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5" name="Picture 4" descr="BD20073_"/>
          <p:cNvPicPr/>
          <p:nvPr/>
        </p:nvPicPr>
        <p:blipFill>
          <a:blip r:embed="rId1"/>
          <a:stretch/>
        </p:blipFill>
        <p:spPr>
          <a:xfrm>
            <a:off x="5791320" y="4495680"/>
            <a:ext cx="3003480" cy="21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Psychotherap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371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his can help many depressed people understand themselves and cope with their problems. For exampl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terpersonal therapy works to change relationships that affect depress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Cognitive-behavioral therapy helps people change negative thinking and behavior pattern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8" name="Picture 4" descr="BS01651_"/>
          <p:cNvPicPr/>
          <p:nvPr/>
        </p:nvPicPr>
        <p:blipFill>
          <a:blip r:embed="rId1"/>
          <a:stretch/>
        </p:blipFill>
        <p:spPr>
          <a:xfrm>
            <a:off x="5791320" y="5067360"/>
            <a:ext cx="294948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c7c9f"/>
                </a:solidFill>
                <a:latin typeface="Arial"/>
              </a:rPr>
              <a:t>Kennedy Peer Advocates</a:t>
            </a:r>
            <a:br>
              <a:rPr sz="3600"/>
            </a:br>
            <a:r>
              <a:rPr b="1" lang="en-US" sz="3600" spc="-1" strike="noStrike">
                <a:solidFill>
                  <a:srgbClr val="2c7c9f"/>
                </a:solidFill>
                <a:latin typeface="Arial"/>
              </a:rPr>
              <a:t>Here to help you!</a:t>
            </a:r>
            <a:endParaRPr b="0" lang="en-US" sz="3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3200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Speak to a peer advocate, counselor,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</a:rPr>
              <a:t>teacher or an adult you trus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What causes Depression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Family History</a:t>
            </a: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Having a family members who have depression may increase a person’s risk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Imbalances of certain chemicals in the brain may lead to depression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447920" y="685440"/>
            <a:ext cx="48765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959"/>
                </a:solidFill>
                <a:latin typeface="Arial"/>
              </a:rPr>
              <a:t>Major Life Changes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2000" indent="-3420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Positive or negative events can trigger depression. Examples include the death of a loved one or a job los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71760" indent="-32976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Major Illnesses such as heart attack, stroke or cancer may trigger depress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6041880" y="3276720"/>
          <a:ext cx="3232440" cy="33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1880" y="3276720"/>
                    <a:ext cx="3232440" cy="33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590560" y="1219320"/>
            <a:ext cx="65530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Certain medications used alone or in combination can cause side effects much like the symptoms of depress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Use of Alcohol or other Drugs can lead to or worsen depression.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Arial"/>
              </a:rPr>
              <a:t>Depression can also occur for no apparent reason!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0" y="3048120"/>
          <a:ext cx="3273480" cy="34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8120"/>
                    <a:ext cx="327348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ymptoms of Depress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57480" y="1981080"/>
            <a:ext cx="529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Vary from person to person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</a:rPr>
              <a:t>2 key signs are loss of interest in things you like to do and sadness or irritability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6273720" y="1523880"/>
          <a:ext cx="287028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1523880"/>
                    <a:ext cx="28702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Signs include: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94920" y="1980720"/>
            <a:ext cx="7734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95959"/>
                </a:solidFill>
                <a:latin typeface="Arial"/>
              </a:rPr>
              <a:t>Changes in feelings which may include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Feeling empt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ability to enjoy anything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Hopelessnes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oss of warm feelings for family or friend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Feelings of self blame or guil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oss of self estee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Inexplicable crying spells, sadness or irritability, ange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Physical Complain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90560" y="1447920"/>
            <a:ext cx="6095880" cy="5410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These may include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Sleep disturbances such as early morning waking, sleeping too much or insomnia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Lack of energ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Unexplained headaches or backach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10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Arial"/>
              </a:rPr>
              <a:t>Stomachaches, indigestion or changes in bowel habi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8" name="Picture 5" descr="j0157055"/>
          <p:cNvPicPr/>
          <p:nvPr/>
        </p:nvPicPr>
        <p:blipFill>
          <a:blip r:embed="rId1"/>
          <a:stretch/>
        </p:blipFill>
        <p:spPr>
          <a:xfrm>
            <a:off x="0" y="3833640"/>
            <a:ext cx="29638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c7c9f"/>
                </a:solidFill>
                <a:latin typeface="Arial"/>
              </a:rPr>
              <a:t>Common Types of Depression</a:t>
            </a:r>
            <a:endParaRPr b="0" lang="en-US" sz="40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716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Major Depression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Dysthymia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Bipolar Disorder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10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95959"/>
                </a:solidFill>
                <a:latin typeface="Arial"/>
              </a:rPr>
              <a:t>Seasonal Affective Disorder (SAD)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09680" y="152352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Arial"/>
              </a:rPr>
              <a:t>Major Depress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Arial"/>
              </a:rPr>
              <a:t>This type causes symptoms that may: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Begin suddenly, possibly triggered by a loss, crisis or chan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Interfere with normal functioning (school, work or relationship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9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Arial"/>
              </a:rPr>
              <a:t>Continue for months or yea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" name="Picture 4" descr="j0131713"/>
          <p:cNvPicPr/>
          <p:nvPr/>
        </p:nvPicPr>
        <p:blipFill>
          <a:blip r:embed="rId1"/>
          <a:stretch/>
        </p:blipFill>
        <p:spPr>
          <a:xfrm>
            <a:off x="152280" y="-3240"/>
            <a:ext cx="279396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15:30:41Z</dcterms:created>
  <dc:creator>April Herring</dc:creator>
  <dc:description/>
  <dc:language>en-US</dc:language>
  <cp:lastModifiedBy>Staff</cp:lastModifiedBy>
  <dcterms:modified xsi:type="dcterms:W3CDTF">2016-09-08T04:23:04Z</dcterms:modified>
  <cp:revision>19</cp:revision>
  <dc:subject/>
  <dc:title>PowerPoint Presentation</dc:title>
</cp:coreProperties>
</file>